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8E8-08AE-4C76-8F42-334969D1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0E6-26AA-4428-965A-5DA125B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588-E25B-4801-97F1-7807A9BD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20B-6CF6-4E6E-8DAD-FAD2A541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563-CE94-4F8D-A6A5-ADFBE2B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ECC-2DD3-4AC8-9E34-51C78734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295-4C07-42E6-907F-A00A59F8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F2F-5F0C-466A-BAA2-B26FE919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84C-693F-4034-935E-1EA30777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5FE-CE70-4A64-8DB9-2D88461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B42-F3DB-4176-87FB-EEA921E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FF3-AE35-4419-A7A7-521ABDF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1B05-4DAD-4F2D-87E6-314C0B105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cpa.org/Creating21stCenturyLearners_LibraryDataReport.10.17.12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a school librarian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ache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es and co-teach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literacy skills &amp;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profession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motes a love of reading and lit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de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SLP supports the school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ittee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brari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s collection to support curriculum and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motes the use of appropriate technology for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al use of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s it matter?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most important thing a strong library program can have is a full-time certified librarian with support staff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 School Library Project, et. al. 2012. Creating 21st-Centry Learners: A Report on Pennsylvania’s Public School Libraries.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lcpa.org/Creating21stCenturyLearners_LibraryDataReport.10.17.12.pdf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accessed March 18, 2013)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chool librarians have deep expertise in digital literacy skills; have well-developed instructional strategies based on thinking critically, communicating creatively in a variety of media, and solving problems creatively; and are often role models for strong leadership, initiative, and other career and life skill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rilling, Bernie. 2010. “From Libraries to Learning Libratories: The New ABC's of 21st-Century School Libraries.” School Library Monthly 29 (1): 43.  &lt;http://www.schoollibrarymonthly.com/articles/Trilling2010-v27n1p43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789360" y="457200"/>
            <a:ext cx="4835520" cy="6257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33520" y="2340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Data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oration of a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LA assistance—Northeast Area Dir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s to emu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ding legi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0:49:21Z</dcterms:created>
  <dc:creator>JudiParadis</dc:creator>
  <dc:description/>
  <dc:language>en-US</dc:language>
  <cp:lastModifiedBy>JudiParadis</cp:lastModifiedBy>
  <dcterms:modified xsi:type="dcterms:W3CDTF">2013-10-07T01:18:04Z</dcterms:modified>
  <cp:revision>3</cp:revision>
  <dc:subject/>
  <dc:title>What does a school librarian do?</dc:title>
</cp:coreProperties>
</file>